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346-E2BF-4874-938D-DF1D96FC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B93-BBE5-4856-A7E9-54706A19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9F4FF-8AED-454E-8E17-A5F0392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B6E16-BA55-4728-806C-98AF280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A1D79-AA8D-42CB-B91C-BA99CE05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60C9D-EFA9-4DF9-9C1E-BEA18E2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7DAA2-C408-4CF1-8482-A9DE5D0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C0988-457E-4FFF-9D7C-09148696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4D962-DDED-4E37-A049-69EECBA3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983D9-E5E5-4D86-BD44-98FE9C75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C37B6-7735-44EC-B054-AFEC1A66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1709F-D428-4BD7-885B-3C6CB716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BAD-7925-4FB8-9E70-C5D15CDA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F899D-2BE9-41F1-840D-CBAC4A9A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E3E8B-AB96-4346-B805-88528C3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4E9CC-CE87-4C1D-8D90-1D2CD13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C810E-352F-45A5-AE10-D02F0522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1A56F-AAD1-4A21-94A8-BC2920D3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F00FE-0D19-40CA-9DBC-0DF18BF0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B496D-DC0B-4352-9E2C-108008D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AE4BE-7614-442F-B2B4-02CB7753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BBF7F-05C4-4399-BF34-8EEE5824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E6641-61DC-4FA4-9D64-98744F8E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00A-B41D-45B2-A0E3-12023454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31010-A40A-4278-BD4B-FA3892B7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005F7-98B8-4149-AB82-26572694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0431C-68B1-4EE5-AD54-2C77EFEB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AB406-2047-4335-BF1F-183D9597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EBD5C-83DF-4D02-AC59-27C9039C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4278B-75A1-48A8-8A1E-0AA476A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DBCFE-B461-4761-ACD6-E680504A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55219-EFB1-438D-8CFC-5C8D5708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7A028-BD3C-4FE6-8DBD-E2313CB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3A926-BA22-4801-BAFD-831D7826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C0EC-E854-47AA-B965-C615FFFD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EE7B5-99D6-4A93-8390-8D907487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E9F52-6990-4277-8BBB-F914162B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C8A80-146D-4CA4-BEB2-63FE1219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36D10-C2D2-4EDA-806C-EB2690CD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B099D-D904-4094-B0C3-01920C97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41951-7607-41CD-A3D3-CBC3DDDB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2DB64-B326-4834-B574-506A0E3B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8ECC6-EB3B-45CB-A600-D16A7E4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F138C-6D2A-4AA9-A58F-51EFBD9C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72653-0DC9-45D8-B94F-A55656B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DD53-06B7-476A-8ED8-AA359276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F342F-EA4A-45B0-AC6F-A2F5626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AE68A-44FD-4111-AAFC-E9E545E3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0232A-1B72-403B-9FAB-23756AC3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50B2C-ECF8-4D62-A8AD-86A409C9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458CE-96C7-46DA-B792-BAC513BA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2830B-C33D-485C-9BD0-D163BEF8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7AD0A-F6BD-4601-9877-2C098F39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15DD1-C37C-4550-8089-C4882E7D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6EDE5-F102-479F-9714-F2C862A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6BE37-DF9F-4377-994A-76C58BD2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3973-CC42-4164-9FE9-F8C3F832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792CE-412F-47B0-BD4E-E44E0A5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D15B5-32CA-4A58-8A4A-EE2630A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AB6B2-E5F4-4507-8F32-27B9CE87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3371F-9149-4ACC-BABE-974B2528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5A04C-66AA-40D8-85F8-3300A7D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33723-A449-44B9-96E2-F6C868A4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F402A-7566-448F-9783-0A8747F9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DBA3F-3873-4A64-89EC-24C6B3FD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C0038-4EF1-4B2B-BF59-EF2637E2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3C04C-BD36-4B2C-82C5-FE38CA30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8606-6E9E-409D-B80E-34A40A0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822C0-A29E-46B0-9B0A-E4A7FBD5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71B77-0C04-4489-B2E6-68942DF1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630EC-8B27-4FF0-B7B6-A7903C56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B77AD-49F6-47A2-8E48-C50944D6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FA1A8-6160-4956-AD95-DF1F81AF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09D24-4EFE-4D30-A7ED-698A505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8BD22-354F-4810-B537-C3E83554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631EB-6AC0-4E25-92EE-0E89AA1A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C2DE4-0278-4004-B2E1-D4E73DB8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8F9CF-284B-4432-98CA-7EE2806E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B11B-2A47-4590-B45F-949F6CF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71397-488D-4902-A2CA-EA834FF8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CBE88-D830-4DD1-898A-101957BA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52DBF-2C95-44B5-8D0E-CF03ED4D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4E3D5-907B-4D55-9076-69BE4C61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82099-7CB4-4712-8D64-58CD3232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A48A1-6E47-4BB7-AFB6-401898C0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33180E-3B2D-4627-A6D0-99D43F3E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359F7-57BF-40B3-A264-D0230094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A36EC-B172-435B-82FA-3A98660E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2A969-0F0A-4D4E-A408-86B4F0C7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480B-A693-4CE9-B44E-53C8C28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D2B02-4F30-46B9-A67E-AF591B59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DE1D0-FD3A-4B12-A1C3-961F72D2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7092F-77CA-4124-B0EB-68C97D56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326C2-BAAF-456D-83DC-3488BBF8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8D757-78FD-49F4-9968-A6B625BD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83DC8-D15A-4BC2-AC98-54093E66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00B5C-F7C7-48E6-B09C-445C154F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5D8D6-9007-4C48-93C5-7888C1B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0DDA1-BA34-4C6F-AE8A-D15B8C02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09536-D34C-4DBA-AB0A-EED73432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0C86-C443-48CC-BBC5-4BDD057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FFA3C-B4D4-49D8-B7E6-CAEE87F3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9E2B7-D245-4914-A4B6-2531BC46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1543D-3BB3-4D16-99F3-A98A8F20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AE773-E6BF-4579-B299-BD201558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C318B-8D11-4F16-8E31-DED100B7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4EB56-28A6-47DE-BE78-ADFD796D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F122F-459F-4870-8D95-5378A751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1BF98-E1E6-49EB-9301-3EED4550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44DC8-A399-477C-B216-FCC9D3F3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6590FB-1F95-4B0F-83E5-4DFF4BFA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1F9-8B5E-4175-AEFF-D924C5A9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68A4-4082-488D-8D1F-97450A15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2BB28-BFB2-4EBF-84A1-978EEAF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801EE-32E6-43AC-9522-7907563C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60D4A-34F6-4EBD-8BF8-BE8F67FB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92E70-E05F-4397-B20F-4CDA77EC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E38EE-1E30-4506-832D-41AE3079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6DF59-05D2-4E71-A96D-958A8529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3BD95-5F66-486A-B524-1A905EEE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CFEFC-076D-4DB9-A899-7E976135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94068-4E8E-4412-9FBE-2A16D30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386338-D531-4F88-934F-E9FD9CB4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1BC0-8DDD-4143-8B74-B150324F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C4DF0-770F-4CBC-8839-E2437180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72BCD6-FB48-446A-AB6E-AD5CAF5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573F1E-D69E-4815-BEA4-C8FC8CF5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532F77-E759-459F-8230-26E0ED79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97FFB-53D6-4BBB-A4BF-C1F1B27A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EE9F4-13C2-48FB-8839-D5B5406A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4808D-7BD3-4697-857D-7864AB2D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BE0F0-7B43-4D82-9110-C824F857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E65608-F72E-4B2D-8269-1786817C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C94CB-195B-47A2-8C5A-EC175B73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278B-E7FA-48C7-9904-2269434D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8497E-C0D5-4BF6-9DC4-D387BD19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C2632-0C69-4888-8870-D7CFB254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5FFE86-4E9D-495D-8B37-32FE5F9D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3C0BD5-7BEB-4F90-867A-A9DEB22A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9C6A0-B280-4BA9-9F12-10FD7E3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4E0450-179B-4D15-A25F-EE33E9C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1CBA10-0C17-4CC2-B143-E1ECD97A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5D18C-EC2A-4BCE-B3FF-A9FD5FC5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40DA3-8E81-4623-8395-C065AEF4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3D81F6-C548-4655-BDDF-4ECEEC9E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3A60-D357-4A4D-8889-87ED2EB2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98EC8-49BE-45DE-910D-E47E1F71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41049-0E15-4D2F-92AB-C8CF8095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E3FAAF-2C8E-4BC2-A3AE-FCC6D0A7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8BFA1-4E2B-48A9-80B8-EDADCB29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E8F53-C7D5-4E1A-BF4D-67A679D6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08D90-111D-4FF6-959F-ADFEF3A7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4E1E6B-B3E3-4753-A700-417DC18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31BBA-E664-4F7D-92BB-D4FB19D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B4CCB-87DB-4545-80AE-9327BC4B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657FA-E9A8-4CFB-822C-2439276C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C935-5BC9-41E8-989A-EFD2FDBB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794B7-4338-4B8A-B370-7020A25E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A4D0E1-4AE7-4750-8A94-52D1FD1A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EAC36A-B145-492A-813E-3FB51D10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7D95EB-1659-40D0-A50C-72DCA7A5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0475F-8D89-4EB7-B4A3-F98510B9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E02677-51A2-459D-B624-9AF6455D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80BFB-DD1A-4355-A5F8-86487464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DD101-343B-41F4-80EE-DEDA1D5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17111-4BE4-4972-9711-6EEDF4D3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738E0-0BD2-4F9E-8064-04EC7B47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86BF-6BBE-466D-BAC5-D041A41A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705069-07D6-46B9-B040-7E42349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41A0A0-C5EB-459E-9F6A-3EFEF9F9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48E235-F148-403B-BDA8-331AFF28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C3299D-4329-4B76-AA2C-EB61A5DE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758BB0-C4C2-468D-972B-5371EE3E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5A02DA-14F6-42DB-B90B-6D779A19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BEC7FA-E876-403A-A3C6-97A86C68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080DAE-E456-40D4-8E3C-046E210C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675C56-9DA2-4961-B9B5-FDD6B3E3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F964BA-E5CD-47B4-B215-A5F84B1F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8A79-5BF0-4B83-B9BA-BFC53427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B3051F-34AF-4F33-9CB5-6BF1E5B7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96851-6172-4B88-AB20-43B83DAE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022F1E-5033-436E-9C00-FA81044E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31F3B3-4CF4-4948-9994-66B9F79E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4ABDE9-3F7F-4C52-A62B-05425253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9F5587-D2BF-4194-A39B-6A39E5D0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6343D5-F484-4A75-82E7-98C89175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A4CD0-A82C-46CE-9A34-88ED97B6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AEDF38-F9AF-4AF5-A1BF-798DE5C3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99BD9-75B9-469F-9A98-9DD9673C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40DD-CBB6-4A8A-AF46-258BDD64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D9774F-4613-4B5F-9AD0-28685BF4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C2FCCC-E612-4D14-B897-6399365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6CE830-22FC-4614-BCF1-1957CC8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CFDA3E-C496-4A14-B54F-82B59638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621B20-1659-48EF-9803-5A244B6D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9523BC-56E1-4924-9E0B-8092452B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BB60D9-137F-4E56-A19F-FB8CEB89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97E26-C0C1-4EF1-B7D5-F85BE18E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939D21-F824-4869-8D64-60A679DA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0BC05B-D7EC-4FE1-B948-90856F32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A94A-75FF-422A-8CDB-FC748016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5D129E-4F6B-44F4-B573-D965AD48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B837F2-7838-457A-9E89-7064607B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C91260-6685-4B85-9C72-4AC82372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CBE5E5-3BF8-4A46-8072-2088546D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28A8B7-F73A-4836-A65F-BBCA36AD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9E9D7D-50D6-4E38-ABBD-1C07B4F1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155EBC-CE59-4ADB-90DA-4280BEC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462B72-79BF-41E4-BB14-373A498B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AD22C5-AC44-468A-BAA5-23FC598E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13B6ED-7AB1-46E2-9D32-1859E068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8837-4A64-43CA-9544-26E393CD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C1ABF6-22CD-4F91-8912-F458E0F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06541E-906E-4363-BC1A-A51399A6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01F77D-F4AD-4236-AB1D-141199BC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55807A-F2E6-47C7-A3BF-82B8A296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46EB35-F36E-4E35-B9FB-3866ED36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0337E4-4049-406D-AB19-56BC6E80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CBC428-8302-4DE6-B3E4-E77E9BE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7005FD-C7C7-4CDB-B77E-0CD2B24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E4FB43-6787-40CF-A143-01034C22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006A8C-0AAE-481F-8258-56CFCBE5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2E5-B6E5-4015-ABC5-36C61DE0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B8ED-1B58-4486-89FE-CC13A2F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108A9F-FFB9-47B2-B247-0F2F65E8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0D3E94-CC4A-4AD5-9945-8196CBBD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9D4DC1-AE50-4A9C-92A0-81CA56E4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5DE071-12D6-40B2-BC49-2C11B40B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7289BF-E621-464C-8A0E-F624472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0669D2-2C9B-4874-B762-11702B90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2F2133-86B8-4CC0-ABC9-9A23208B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5270F4-C347-4BF1-8F11-60BA5F4E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BEC11D-2740-404F-AFA3-921F142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D783E6-6D6E-4617-B010-618B98D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D343-6DD3-483C-B350-28DB42C3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FEBE4A-53BD-48EE-9CF2-76FD8D67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0E23F1-3AFD-407C-8DBA-3BD0C4AD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0A1573-DFCA-4019-A511-A9F30722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E13129-F145-4828-BD16-FC51F336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53A547-F884-4727-84FB-6B49E675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0756EB-2836-48B2-9BBE-B8FD37F6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3CE9C0-57D4-4A9A-BCEC-DDC426AC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35C319-2F0C-4DA0-BDD6-7EED5411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82389F-094C-45B9-85B0-DD2F94CE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9EA639-B915-4CAF-8332-B3F7234D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94EF-FC42-407D-B254-1D8D532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6510BC-C681-43EF-B716-DFDD5DCE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FA39B2-51D9-48B0-A057-C3A3A37E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98EC27-EC08-4D6E-AB55-DE7080D9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FF90FB-CE6C-4ED8-BA93-0E16C316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167BC4-FAD9-4F34-9DA1-5946EA53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B3ECB5-B15B-45C0-9BCD-189A974A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A52F8F-F023-4392-B919-8F34BA66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1D9466-121A-4F10-B2A0-2E8B1CBC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A4B702-ADAF-4033-B5CB-1B970E16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EE5A5C-CBF1-4165-A222-A0418912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4BC3-8BA6-4F14-8D2A-D19CB662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FF49C2-DC45-49C7-AF77-6116444E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437CF9-BC33-4FD9-9E79-71F4DD9F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26F639-DD25-44E4-A01F-0FB9781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63B363-C10E-4F45-8261-EB0C18AB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7CC411-A871-48AE-8AC5-E531FE54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7D6D96-934D-4F66-AD79-7C602E14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3ABC9D-EA13-4C2B-B951-E03BF8F8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21ADF9-8F7A-4464-BE21-FB7E7383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6F9FAB-057B-458C-B5F7-29959E0F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BE2C3E-3D05-4B23-BDE6-28745E09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06BB-7841-4D92-B48D-68266003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C62FDC-8120-4946-A62E-56E91B17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96E33A-6564-40DE-9B2B-020702C8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1145BD-6A3D-4EFA-B5B1-E097C4B3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DB6F7B-0A42-4194-951E-3462CDB5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0465BA-A69C-4562-9764-00C90AC1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D51A59-FC48-49B8-9863-304CA5B6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F1E075-3E37-4831-AC03-407F30D6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F5742C-81BC-4756-9713-C54071C9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7F01C4-963D-406C-BF93-37087799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2292BD-5CD8-4968-B6D4-5597922C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8FCD-E4B1-472B-BC33-15372DEA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2AFF07-6179-428D-82EA-06DD2CED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6484C7-6EB7-4E23-8BA5-34045398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F9B28B-D99F-4FF7-91D8-54EB166C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9D07C2-12CC-42DC-9484-55687A4A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C56A23-312A-4272-9BF2-2AC71A39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9830B7-D7A2-448B-A97F-8B791E22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71CD09-9E19-4195-9A64-F974A5C0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3AB26B-F4FF-4789-A18A-4953859D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E9C282-BE09-4F42-A2AB-A66A7286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FCAA97-9C41-4299-AE07-7A1BA70A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49D3-8308-4201-BC44-5DB386CD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EE2AD4-A1E9-429A-BD8F-FACE715F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CCA0F9-086A-4F7A-9962-88B97372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A97178-8651-4E05-B19A-DD0A5A9B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B56301-E2A6-4F4D-B5CB-44395581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AE6491-8620-4154-A745-2660062D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537BEB-0C1E-49F8-B36E-885A566E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AB2CAA-F6AB-4C05-8FA8-1BC3125D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45343F-55AE-4233-B49C-C1AA092C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749E82-611E-41E3-BDF1-2A25350F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19C1D0-2F60-4775-B116-9295B2FF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A716-B05D-4368-83B7-3AECCB7B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2E3BC1-6F79-42FD-8C9B-7E48EEB4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AA2000-1A02-4582-AD25-BF953754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51CB89-DE47-41DD-B271-EAD00406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D959-2EAB-4116-8A13-6FD092EC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B267-2317-4202-B617-B609E4D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5C9-D811-46D5-A3D0-5905F3EB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4267-F343-421D-B087-5475A79E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3799-BF3F-4059-A11C-30F440DB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BAD57-0267-4302-A711-83303C32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FE46-EF70-4EE0-A87D-0CAFA0DE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D720-4EF8-4487-9470-654C050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B4DDA-20A9-41F3-9ACE-3657542A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F3AB-EDA6-4852-9F3A-3561EBB2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1E625-B2E5-46D4-A5F9-910C7271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7F595-F24A-43F0-9868-718ABD34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FA57D-4AB7-444D-BEDB-1E24AC4F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DF8-B113-4EC4-A6BB-DD5A5F6D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AF66-28C3-4B3A-AD6E-4965E2C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CFBB-0F78-4A6B-9A76-01EEBF8C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66FE-A783-41CA-9DAF-3996058A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7D3D6-3931-40DC-A58F-AB762577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0D0D-DCF9-4414-B48F-2FBC67BB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6761B-6434-48F3-9C6B-85F2E7C4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3676-10D4-4129-AF83-C7F470B1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CCB6E-8ED8-437E-B4A0-F94A7519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10FF0-66A8-4D77-BAE5-CDC44D94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80CD-3AEE-488B-BE91-841E2418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E2C-D9B7-4B7C-97C7-A386553E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AD0D-3DE0-420F-9406-8D630651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E754-03AA-4484-A0AA-8306A203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FD25D-0EBE-4B25-ADBF-124CF964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C83EC-E4BD-497B-AF5D-25A985D4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13A0C-02E5-4D4E-9530-BEDA7572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AC461-16F4-4A05-952F-6D0542F4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6C095-25F1-40EA-9D19-A517AEE8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35967-FC90-4577-B5A9-E39901E0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082F7-DE66-4571-9479-23F37ED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F657-05AC-440D-8A05-53E252DB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E73-DC4B-427B-96B7-8FB5B877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2D7CE-B65E-46DE-9322-CB3C5CCE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DF8E-314F-4415-AB2B-6D1D1C10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852C-3FAF-4A2D-9DF4-E663D0A8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C4E1B-1AE9-4879-B9E1-419F6B3F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A7B0A-1686-4AB1-B56F-0A0FC520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EF18-59E9-4CEA-A35C-48601E6E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799CC-2636-4D0F-827F-C699EC44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EA93-4DDD-4C64-8E41-F601ED9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AB9DB-F285-4DC8-AB71-84AA1CB2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5DBD8-2BEA-4A1A-B15E-F170D386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EF4-4B8F-4368-B3DA-6E2BC523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52E2-D982-4ABE-8356-51D2CEA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76CB9-0127-43B9-9679-5A92CAFC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9AADF-2A14-42EE-9814-4E2D12D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F23A9-59C6-48E2-A42E-CB3AAB02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55CDC-9CD9-4EA4-A7CA-91D63C0B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E4D85-F9FD-4CDA-A6EA-8E0D1057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C464A-CEB8-473C-9FB5-AB22301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6BCFE-2D8D-4661-91F6-4652C26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909DF-ADE4-45B4-B48F-A9D482AF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DAC77-D9E3-4AB9-AA27-9D94D730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EEA-64E2-49DF-8F64-25249E3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7C865-E3D8-44F0-98E4-B12BE142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83108-4123-41D4-A9B1-B9035376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A3E48-4905-4512-B71E-CC4B522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3EFFA-F482-40FF-8A31-A670D41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4C5AC-E4D0-49F8-94A7-38A91AA3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8D6B4-D2C3-4C07-9D91-AD587EFA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63399-B4BD-4546-899A-A247168D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F6E67-1969-47CC-BB32-C6E4BA09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2EE69-E297-4E04-B8A7-0DD26227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6A64C-DB54-402D-A6EB-EE3276A8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4095-F4FF-40D3-ACCB-25C2F19D49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2F95-DDF4-4E78-B9A8-1E41702E3D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BB00-EA9D-45E2-8C78-1F1CA97B1A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C458-4F45-4534-A040-AE3D6E6EDB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4772-A5A2-4440-A4AC-FDD531F13A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29BF-97C7-488C-A822-5AD98E9B8A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3B0F-21DB-4CBF-B99A-153AF229A7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1B0F-A76B-440F-82B9-52B84BE4F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154E-7F3A-40D5-9F93-0CCF7CFFDF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913A-E9C3-46B2-BF5B-1B42440C0A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9242-626D-41B3-9AB6-D7C648490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30DB-147C-42A4-8044-26457BB72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9148-2161-44D4-9F70-48AD1B603E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ADCD-62F3-4FF3-A6A7-2CDDFF1F9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5B97-AFEA-4008-A8D3-B32A96AF52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E196-BA36-4195-9D27-25AD55477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CF0B-3667-4989-82E4-8CA492E1F7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8D2B-D3F1-47BE-A15D-136E42229A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3CFA-24A3-4D50-A7E5-D986164D69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64BD-1019-47EC-867C-823F6E32AF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F2A2-4504-487B-B333-522E739B3F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7348-07D9-47E2-BC23-F4D0F78FA6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6D91-EC7A-44EC-92BC-6562F3E822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29A0-548B-4E51-9741-91098F1579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BC82-4CB4-41E5-A19C-6F1DF07E2C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919A-ED00-431B-8BA4-30765D72D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C72B-2561-4C16-A00C-681076246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EEB0-214F-4874-9F40-A0FAF7854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2137-A336-4051-9BBD-07F3060953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B195-1242-4360-B08A-394C9D872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E74F-A390-4E91-B060-178024F02C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D890-5EDA-4855-A248-0B052AF9C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4C63-3756-4980-A383-01D0921DF0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6A85-659C-4A5E-950F-7CE5E52797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0B11-7F43-4B88-A059-74BFDDFE6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7200-84D0-4D5C-B3C1-9674A6B79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7BDE-D501-4BCA-9A81-E1F4AB38AE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2264-6D1C-40DC-93F1-CA9EA1E243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A0C8-2494-4E69-B153-BB61B4A56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6CB1-0491-473A-90CB-F3C25A9A2A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C8B8-6C07-4438-995D-2DADE556A1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02C9-D192-4376-B90E-706885E72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C30F-B22B-43AA-B0E1-E12682BF31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C7EE-CA71-436C-B489-759789FEFC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27F2-0404-4C62-ACB7-64C3AD1EE6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828-6D25-47E2-BBC8-85A29073D6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8789-08DA-4748-9C91-10833CC2AC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40FC-CC10-47EE-9FA7-12F6D2E9C1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147F-0359-48D2-B1B3-4F25EFE8F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A6A3-2F42-4C1C-824E-91FD424072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224000" y="2452680"/>
            <a:ext cx="6696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6737" descr=""/>
          <p:cNvPicPr/>
          <p:nvPr/>
        </p:nvPicPr>
        <p:blipFill>
          <a:blip r:embed="rId1"/>
          <a:stretch/>
        </p:blipFill>
        <p:spPr>
          <a:xfrm>
            <a:off x="509760" y="1138320"/>
            <a:ext cx="7991280" cy="471492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6738"/>
          <p:cNvSpPr/>
          <p:nvPr/>
        </p:nvSpPr>
        <p:spPr>
          <a:xfrm>
            <a:off x="1419120" y="4343400"/>
            <a:ext cx="61214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6739"/>
          <p:cNvSpPr/>
          <p:nvPr/>
        </p:nvSpPr>
        <p:spPr>
          <a:xfrm>
            <a:off x="1467000" y="48578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6740"/>
          <p:cNvSpPr/>
          <p:nvPr/>
        </p:nvSpPr>
        <p:spPr>
          <a:xfrm>
            <a:off x="1428840" y="541008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5713" descr=""/>
          <p:cNvPicPr/>
          <p:nvPr/>
        </p:nvPicPr>
        <p:blipFill>
          <a:blip r:embed="rId1"/>
          <a:stretch/>
        </p:blipFill>
        <p:spPr>
          <a:xfrm>
            <a:off x="762120" y="1166760"/>
            <a:ext cx="7543800" cy="467676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15714"/>
          <p:cNvSpPr/>
          <p:nvPr/>
        </p:nvSpPr>
        <p:spPr>
          <a:xfrm>
            <a:off x="1247760" y="22478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5715"/>
          <p:cNvSpPr/>
          <p:nvPr/>
        </p:nvSpPr>
        <p:spPr>
          <a:xfrm>
            <a:off x="1190520" y="27716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5716"/>
          <p:cNvSpPr/>
          <p:nvPr/>
        </p:nvSpPr>
        <p:spPr>
          <a:xfrm>
            <a:off x="1257480" y="3343320"/>
            <a:ext cx="7078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5717"/>
          <p:cNvSpPr/>
          <p:nvPr/>
        </p:nvSpPr>
        <p:spPr>
          <a:xfrm>
            <a:off x="1209600" y="3857760"/>
            <a:ext cx="7078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5718"/>
          <p:cNvSpPr/>
          <p:nvPr/>
        </p:nvSpPr>
        <p:spPr>
          <a:xfrm>
            <a:off x="1219320" y="438156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5719"/>
          <p:cNvSpPr/>
          <p:nvPr/>
        </p:nvSpPr>
        <p:spPr>
          <a:xfrm>
            <a:off x="1257480" y="4915080"/>
            <a:ext cx="707832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5720"/>
          <p:cNvSpPr/>
          <p:nvPr/>
        </p:nvSpPr>
        <p:spPr>
          <a:xfrm>
            <a:off x="1200240" y="54482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4689" descr=""/>
          <p:cNvPicPr/>
          <p:nvPr/>
        </p:nvPicPr>
        <p:blipFill>
          <a:blip r:embed="rId1"/>
          <a:stretch/>
        </p:blipFill>
        <p:spPr>
          <a:xfrm>
            <a:off x="695160" y="1376280"/>
            <a:ext cx="7562880" cy="412452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4690"/>
          <p:cNvSpPr/>
          <p:nvPr/>
        </p:nvSpPr>
        <p:spPr>
          <a:xfrm>
            <a:off x="1209600" y="1905120"/>
            <a:ext cx="7078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4691"/>
          <p:cNvSpPr/>
          <p:nvPr/>
        </p:nvSpPr>
        <p:spPr>
          <a:xfrm>
            <a:off x="1190520" y="243828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4692"/>
          <p:cNvSpPr/>
          <p:nvPr/>
        </p:nvSpPr>
        <p:spPr>
          <a:xfrm>
            <a:off x="1238400" y="298116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4693"/>
          <p:cNvSpPr/>
          <p:nvPr/>
        </p:nvSpPr>
        <p:spPr>
          <a:xfrm>
            <a:off x="1085760" y="355284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4694"/>
          <p:cNvSpPr/>
          <p:nvPr/>
        </p:nvSpPr>
        <p:spPr>
          <a:xfrm>
            <a:off x="1152360" y="404820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4695"/>
          <p:cNvSpPr/>
          <p:nvPr/>
        </p:nvSpPr>
        <p:spPr>
          <a:xfrm>
            <a:off x="1190520" y="4562640"/>
            <a:ext cx="7078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4696"/>
          <p:cNvSpPr/>
          <p:nvPr/>
        </p:nvSpPr>
        <p:spPr>
          <a:xfrm>
            <a:off x="1200240" y="511488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3665" descr=""/>
          <p:cNvPicPr/>
          <p:nvPr/>
        </p:nvPicPr>
        <p:blipFill>
          <a:blip r:embed="rId1"/>
          <a:stretch/>
        </p:blipFill>
        <p:spPr>
          <a:xfrm>
            <a:off x="905040" y="1066680"/>
            <a:ext cx="7067520" cy="1962360"/>
          </a:xfrm>
          <a:prstGeom prst="rect">
            <a:avLst/>
          </a:prstGeom>
          <a:ln w="0">
            <a:noFill/>
          </a:ln>
        </p:spPr>
      </p:pic>
      <p:pic>
        <p:nvPicPr>
          <p:cNvPr id="1483" name="图片 113666" descr=""/>
          <p:cNvPicPr/>
          <p:nvPr/>
        </p:nvPicPr>
        <p:blipFill>
          <a:blip r:embed="rId2"/>
          <a:stretch/>
        </p:blipFill>
        <p:spPr>
          <a:xfrm>
            <a:off x="928800" y="3208320"/>
            <a:ext cx="7067520" cy="247644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3667"/>
          <p:cNvSpPr/>
          <p:nvPr/>
        </p:nvSpPr>
        <p:spPr>
          <a:xfrm>
            <a:off x="905040" y="1069920"/>
            <a:ext cx="707832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3668"/>
          <p:cNvSpPr/>
          <p:nvPr/>
        </p:nvSpPr>
        <p:spPr>
          <a:xfrm>
            <a:off x="885960" y="1536840"/>
            <a:ext cx="707868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3669"/>
          <p:cNvSpPr/>
          <p:nvPr/>
        </p:nvSpPr>
        <p:spPr>
          <a:xfrm>
            <a:off x="942840" y="2098800"/>
            <a:ext cx="707868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3670"/>
          <p:cNvSpPr/>
          <p:nvPr/>
        </p:nvSpPr>
        <p:spPr>
          <a:xfrm>
            <a:off x="981000" y="262260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3671"/>
          <p:cNvSpPr/>
          <p:nvPr/>
        </p:nvSpPr>
        <p:spPr>
          <a:xfrm>
            <a:off x="942840" y="318456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3672"/>
          <p:cNvSpPr/>
          <p:nvPr/>
        </p:nvSpPr>
        <p:spPr>
          <a:xfrm>
            <a:off x="905040" y="3670200"/>
            <a:ext cx="707832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3673"/>
          <p:cNvSpPr/>
          <p:nvPr/>
        </p:nvSpPr>
        <p:spPr>
          <a:xfrm>
            <a:off x="952560" y="423216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3674"/>
          <p:cNvSpPr/>
          <p:nvPr/>
        </p:nvSpPr>
        <p:spPr>
          <a:xfrm>
            <a:off x="981000" y="471816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3675"/>
          <p:cNvSpPr/>
          <p:nvPr/>
        </p:nvSpPr>
        <p:spPr>
          <a:xfrm>
            <a:off x="981000" y="5289480"/>
            <a:ext cx="70786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12641" descr=""/>
          <p:cNvPicPr/>
          <p:nvPr/>
        </p:nvPicPr>
        <p:blipFill>
          <a:blip r:embed="rId1"/>
          <a:stretch/>
        </p:blipFill>
        <p:spPr>
          <a:xfrm>
            <a:off x="871560" y="871560"/>
            <a:ext cx="7020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111617" descr=""/>
          <p:cNvPicPr/>
          <p:nvPr/>
        </p:nvPicPr>
        <p:blipFill>
          <a:blip r:embed="rId1"/>
          <a:stretch/>
        </p:blipFill>
        <p:spPr>
          <a:xfrm>
            <a:off x="566640" y="1271520"/>
            <a:ext cx="7953480" cy="1419120"/>
          </a:xfrm>
          <a:prstGeom prst="rect">
            <a:avLst/>
          </a:prstGeom>
          <a:ln w="0">
            <a:noFill/>
          </a:ln>
        </p:spPr>
      </p:pic>
      <p:pic>
        <p:nvPicPr>
          <p:cNvPr id="1495" name="图片 111618" descr=""/>
          <p:cNvPicPr/>
          <p:nvPr/>
        </p:nvPicPr>
        <p:blipFill>
          <a:blip r:embed="rId2"/>
          <a:stretch/>
        </p:blipFill>
        <p:spPr>
          <a:xfrm>
            <a:off x="592200" y="3033720"/>
            <a:ext cx="6257880" cy="923760"/>
          </a:xfrm>
          <a:prstGeom prst="rect">
            <a:avLst/>
          </a:prstGeom>
          <a:ln w="0">
            <a:noFill/>
          </a:ln>
        </p:spPr>
      </p:pic>
      <p:pic>
        <p:nvPicPr>
          <p:cNvPr id="1496" name="图片 111619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7962840" cy="195264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11620"/>
          <p:cNvSpPr/>
          <p:nvPr/>
        </p:nvSpPr>
        <p:spPr>
          <a:xfrm>
            <a:off x="927000" y="2311560"/>
            <a:ext cx="7078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1621"/>
          <p:cNvSpPr/>
          <p:nvPr/>
        </p:nvSpPr>
        <p:spPr>
          <a:xfrm>
            <a:off x="974880" y="3587760"/>
            <a:ext cx="7078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1622"/>
          <p:cNvSpPr/>
          <p:nvPr/>
        </p:nvSpPr>
        <p:spPr>
          <a:xfrm>
            <a:off x="1041480" y="4816440"/>
            <a:ext cx="779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1623"/>
          <p:cNvSpPr/>
          <p:nvPr/>
        </p:nvSpPr>
        <p:spPr>
          <a:xfrm>
            <a:off x="1146240" y="5349960"/>
            <a:ext cx="779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1624"/>
          <p:cNvSpPr/>
          <p:nvPr/>
        </p:nvSpPr>
        <p:spPr>
          <a:xfrm>
            <a:off x="974880" y="5845320"/>
            <a:ext cx="77976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362800" cy="328608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5819760" y="2867040"/>
            <a:ext cx="7192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6858000" y="3610080"/>
            <a:ext cx="7192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5772240" y="3971880"/>
            <a:ext cx="71892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1876320" y="4343400"/>
            <a:ext cx="7192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3905" descr=""/>
          <p:cNvPicPr/>
          <p:nvPr/>
        </p:nvPicPr>
        <p:blipFill>
          <a:blip r:embed="rId1"/>
          <a:stretch/>
        </p:blipFill>
        <p:spPr>
          <a:xfrm>
            <a:off x="399960" y="1609560"/>
            <a:ext cx="8344080" cy="363888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3906"/>
          <p:cNvSpPr/>
          <p:nvPr/>
        </p:nvSpPr>
        <p:spPr>
          <a:xfrm>
            <a:off x="4572000" y="1905120"/>
            <a:ext cx="7192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07"/>
          <p:cNvSpPr/>
          <p:nvPr/>
        </p:nvSpPr>
        <p:spPr>
          <a:xfrm>
            <a:off x="1114560" y="3029040"/>
            <a:ext cx="71892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8"/>
          <p:cNvSpPr/>
          <p:nvPr/>
        </p:nvSpPr>
        <p:spPr>
          <a:xfrm>
            <a:off x="7648560" y="3381480"/>
            <a:ext cx="7192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9"/>
          <p:cNvSpPr/>
          <p:nvPr/>
        </p:nvSpPr>
        <p:spPr>
          <a:xfrm>
            <a:off x="1104840" y="4133880"/>
            <a:ext cx="7192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0"/>
          <p:cNvSpPr/>
          <p:nvPr/>
        </p:nvSpPr>
        <p:spPr>
          <a:xfrm>
            <a:off x="2523960" y="4867200"/>
            <a:ext cx="7192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395280" y="730080"/>
            <a:ext cx="8334360" cy="598176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2882"/>
          <p:cNvSpPr/>
          <p:nvPr/>
        </p:nvSpPr>
        <p:spPr>
          <a:xfrm>
            <a:off x="8229600" y="2733840"/>
            <a:ext cx="325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2883"/>
          <p:cNvSpPr/>
          <p:nvPr/>
        </p:nvSpPr>
        <p:spPr>
          <a:xfrm>
            <a:off x="8201160" y="490536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21857" descr=""/>
          <p:cNvPicPr/>
          <p:nvPr/>
        </p:nvPicPr>
        <p:blipFill>
          <a:blip r:embed="rId1"/>
          <a:stretch/>
        </p:blipFill>
        <p:spPr>
          <a:xfrm>
            <a:off x="333360" y="714240"/>
            <a:ext cx="8344080" cy="221004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121858" descr=""/>
          <p:cNvPicPr/>
          <p:nvPr/>
        </p:nvPicPr>
        <p:blipFill>
          <a:blip r:embed="rId2"/>
          <a:stretch/>
        </p:blipFill>
        <p:spPr>
          <a:xfrm>
            <a:off x="309600" y="3029040"/>
            <a:ext cx="8362800" cy="372420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1859"/>
          <p:cNvSpPr/>
          <p:nvPr/>
        </p:nvSpPr>
        <p:spPr>
          <a:xfrm>
            <a:off x="8153280" y="187632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1860"/>
          <p:cNvSpPr/>
          <p:nvPr/>
        </p:nvSpPr>
        <p:spPr>
          <a:xfrm>
            <a:off x="8115480" y="3438360"/>
            <a:ext cx="3250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61"/>
          <p:cNvSpPr/>
          <p:nvPr/>
        </p:nvSpPr>
        <p:spPr>
          <a:xfrm>
            <a:off x="8163000" y="527688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376200" y="814320"/>
            <a:ext cx="8391600" cy="534348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8191440" y="2400480"/>
            <a:ext cx="325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0835"/>
          <p:cNvSpPr/>
          <p:nvPr/>
        </p:nvSpPr>
        <p:spPr>
          <a:xfrm>
            <a:off x="8229600" y="3943440"/>
            <a:ext cx="325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9809" descr=""/>
          <p:cNvPicPr/>
          <p:nvPr/>
        </p:nvPicPr>
        <p:blipFill>
          <a:blip r:embed="rId1"/>
          <a:stretch/>
        </p:blipFill>
        <p:spPr>
          <a:xfrm>
            <a:off x="390600" y="1033560"/>
            <a:ext cx="8362800" cy="486720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9810"/>
          <p:cNvSpPr/>
          <p:nvPr/>
        </p:nvSpPr>
        <p:spPr>
          <a:xfrm>
            <a:off x="8210520" y="180972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9811"/>
          <p:cNvSpPr/>
          <p:nvPr/>
        </p:nvSpPr>
        <p:spPr>
          <a:xfrm>
            <a:off x="8258040" y="4095720"/>
            <a:ext cx="325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8785" descr=""/>
          <p:cNvPicPr/>
          <p:nvPr/>
        </p:nvPicPr>
        <p:blipFill>
          <a:blip r:embed="rId1"/>
          <a:stretch/>
        </p:blipFill>
        <p:spPr>
          <a:xfrm>
            <a:off x="399960" y="2004840"/>
            <a:ext cx="8344080" cy="28292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8786"/>
          <p:cNvSpPr/>
          <p:nvPr/>
        </p:nvSpPr>
        <p:spPr>
          <a:xfrm>
            <a:off x="8238960" y="1990800"/>
            <a:ext cx="3254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7761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010360" cy="465768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7763"/>
          <p:cNvSpPr/>
          <p:nvPr/>
        </p:nvSpPr>
        <p:spPr>
          <a:xfrm>
            <a:off x="7743960" y="3314880"/>
            <a:ext cx="4413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0:20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